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16D8-A0F8-4490-A5B6-E0E3016EDC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knowledge of who’s who in the Ireland in Conflic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with the following slide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ELAND IN CONFLICT 1909 - 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images of historical personalities from the topic appea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work out who they are and what view they held over Ireland’s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 = limited government/self-rule for Ireland still linked to British Cr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rhaps with Northern Ireland still part of United Kingd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t= the whole of Ireland having self-government (including Nor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= Ireland being independent and totally self-governing (no link to Brit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= workers/people governing Ir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knowledge of who’s who in the Ireland in Conflic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with the following slides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ELAND IN CONFLICT 1909 -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images of historical personalities from the topic appea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work out who they are and what view they held over Ireland’s fu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 = limited government/self-rule for Ireland still linked to British Cr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rhaps with Northern Ireland still part of United Kingd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t= the whole of Ireland having self-government (including No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= Ireland being independent and totally self-governing (no link to Brit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w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= workers/people governing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NOT AFFORD YOU GOING AROUND RIDDLING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NOT AFFORD YOU GOING AROUND RIDDLING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HING WRONG WITH A STIFF WHIS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HING WRONG WITH A STIFF WHIS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O A DEAL WITH YOU MR ASQU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O A DEAL WITH YOU MR ASQU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 NOT HAVE A HAPPY EAST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ELL ME THE T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 NOT HAVE A HAPPY EAST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ELL ME THE TR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SHOT IN 19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SHOT IN 19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MSELF STARTED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MSELF STARTED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CA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Ulster Unionist Cou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ur GRIFF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Sinn F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ick PEA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B member and leader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er 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ONNO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Irish Citizens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LLOYD GEO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Prime Minister 1916 - 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COLL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IRA forces and I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CA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Ulster Unionist Counc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ur GRIFF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Sinn F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ick PE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B member and lead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er R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ONNO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Irish Citizens A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LLOYD GE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Prime Minister 1916 -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COLL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IRA forces and I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mmon DE VA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Sinn F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 REDM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Nationalist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oin MAC NE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Volunteer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ger CAS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mber of I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mes CRA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puty Leader of Ulster Unionist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ert ASQU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tish Prime Min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mmon DE VA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Sinn F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 RED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National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oin MAC NE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Volunteer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ger CAS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mber of I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mes CRA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puty Leader of Ulster Union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ert ASQU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tish Prime Min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BUDGET WAS REJECTED BY THE HOUSE OF L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BUDGET WAS REJECTED BY THE HOUSE OF L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LS, THE FOOLS, THE FOO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LS, THE FOOLS, THE FOO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? OVER MY DEAD BOD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? OVER MY DEAD BOD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GOODNESS, I HATE SUBMA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GOODNESS, I HATE SUBMA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IST REVOLUTION WILL SOLVE IRELAND’S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IST REVOLUTION WILL SOLVE IRELAND’S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BOYO, YOU WILL HAVE TO SPLIT IR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BOYO, YOU WILL HAVE TO SPLIT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D5D4-8E16-4F17-AF5E-73B5002E9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7A11-A6D0-4BC1-AEED-D4AACEE1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9109-146E-4C6A-BD9C-564452D6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5BD7-4FFA-4C31-AE5F-9C1E1D6E2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CADC-7FE2-482A-9C34-14C7150BF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175D-2B86-4B80-9B5F-01E569E9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862E-D79F-4F34-A844-96C6C40B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ED6D-EA6A-48F2-A4A7-41BCCFDE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2D12-8C34-4FA6-9D13-3A13A7D5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6C89-2187-4E64-B100-3AE2E4C5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196E-BC3B-46FE-80A8-30AD21D6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73A4-53B6-4EE2-B5F4-16AD2EC3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5946-4F09-4BB3-BC7F-FFE77281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1E26-0525-4F77-A8E4-A58BD6E8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E5C4-B987-4ED3-BEBD-DB46C29A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0C56-05DA-4794-BB84-2EF651EA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6387-1D4F-445F-9226-19B0F327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CF33-3140-4322-8D57-F55F12AF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77F0-6A3A-4615-ACA8-E88E6F4B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5112-1D52-4AF6-A45C-342523B9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03A5-DE52-404F-8FED-BE4AAB67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680A-2481-45A5-91C7-17FAD2ED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60BB-9599-459D-9FE9-F860B28A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37D3-61E3-4535-BAFA-95997BED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DCDC-11C2-48B4-B3DB-DA88C2B924BE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B6B7-EF25-442D-8263-3CD25FEFE28C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5"/>
          <p:cNvSpPr/>
          <p:nvPr/>
        </p:nvSpPr>
        <p:spPr>
          <a:xfrm>
            <a:off x="1137600" y="1219320"/>
            <a:ext cx="67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st your knowledge of who’s who in the Ireland in Conflic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opic with the following slides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5257800" y="57895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c3300"/>
                </a:solidFill>
                <a:latin typeface="Arial"/>
              </a:rPr>
              <a:t>Click here t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987480" y="457200"/>
            <a:ext cx="69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RELAND IN CONFLICT 1909 - 19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454680" y="2057400"/>
            <a:ext cx="824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b812f"/>
                </a:solidFill>
                <a:latin typeface="Arial"/>
              </a:rPr>
              <a:t>As the images of historical personalities from the topic appe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b812f"/>
                </a:solidFill>
                <a:latin typeface="Arial"/>
              </a:rPr>
              <a:t>try to work out who they are and what view they held over Ireland’s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-10800" y="2768760"/>
            <a:ext cx="913572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	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            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RE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Home Rule = limited government/self-rule for Ireland still linked to British Cr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	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       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(perhaps with Northern Ireland still part of United Kingd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Nationalist= the whole of Ireland having self-government (including Nor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Republican= Ireland being independent and totally self-governing (no link to Brit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                    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Cr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Socialist= workers/people governing Ire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81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MIc Collins in general's outfit"/>
          <p:cNvPicPr/>
          <p:nvPr/>
        </p:nvPicPr>
        <p:blipFill>
          <a:blip r:embed="rId1"/>
          <a:stretch/>
        </p:blipFill>
        <p:spPr>
          <a:xfrm>
            <a:off x="3059280" y="1197000"/>
            <a:ext cx="3538440" cy="486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539640" y="3333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WE CANNOT AFFORD YOU GOING AROUND RIDDLING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2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James Craig"/>
          <p:cNvPicPr/>
          <p:nvPr/>
        </p:nvPicPr>
        <p:blipFill>
          <a:blip r:embed="rId1"/>
          <a:stretch/>
        </p:blipFill>
        <p:spPr>
          <a:xfrm>
            <a:off x="3059280" y="1268280"/>
            <a:ext cx="3803400" cy="460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RE IS NOTHING WRONG WITH A STIFF WHIS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WE WILL DO A DEAL WITH YOU MR ASQUITH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Picture 4" descr="John Redmond"/>
          <p:cNvPicPr/>
          <p:nvPr/>
        </p:nvPicPr>
        <p:blipFill>
          <a:blip r:embed="rId1"/>
          <a:stretch/>
        </p:blipFill>
        <p:spPr>
          <a:xfrm>
            <a:off x="3203640" y="907920"/>
            <a:ext cx="2849400" cy="525780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00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I DID NOT HAVE</a:t>
            </a:r>
            <a:r>
              <a:rPr b="0" lang="en-US" sz="3800" spc="-1" strike="noStrike">
                <a:solidFill>
                  <a:srgbClr val="009900"/>
                </a:solidFill>
                <a:latin typeface="Franklin Gothic Demi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A HAPPY EASTER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THEY DID NOT TELL ME THE TRUTH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5" name="Picture 4" descr="Eoin MacNeill"/>
          <p:cNvPicPr/>
          <p:nvPr/>
        </p:nvPicPr>
        <p:blipFill>
          <a:blip r:embed="rId1"/>
          <a:stretch/>
        </p:blipFill>
        <p:spPr>
          <a:xfrm>
            <a:off x="3203640" y="1557360"/>
            <a:ext cx="3041640" cy="46069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Demi"/>
              </a:rPr>
              <a:t>NOT SHOT IN 1916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8" name="Picture 4" descr="Eammon De Valera"/>
          <p:cNvPicPr/>
          <p:nvPr/>
        </p:nvPicPr>
        <p:blipFill>
          <a:blip r:embed="rId1"/>
          <a:stretch/>
        </p:blipFill>
        <p:spPr>
          <a:xfrm>
            <a:off x="3635280" y="1341360"/>
            <a:ext cx="1716120" cy="482436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Demi"/>
              </a:rPr>
              <a:t>HIMSELF STARTED IT</a:t>
            </a:r>
            <a:r>
              <a:rPr b="0" lang="en-US" sz="4200" spc="-1" strike="noStrike">
                <a:solidFill>
                  <a:srgbClr val="006633"/>
                </a:solidFill>
                <a:latin typeface="Franklin Gothic Demi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1" name="Picture 4" descr="Griffith image"/>
          <p:cNvPicPr/>
          <p:nvPr/>
        </p:nvPicPr>
        <p:blipFill>
          <a:blip r:embed="rId1"/>
          <a:stretch/>
        </p:blipFill>
        <p:spPr>
          <a:xfrm>
            <a:off x="2616120" y="1125360"/>
            <a:ext cx="3441960" cy="49626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-6840" y="2209680"/>
            <a:ext cx="300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Edward CA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Leader of Ulster Unionist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UNION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181560" y="2590920"/>
            <a:ext cx="196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Arthur GRIFF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Founder of Sinn F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29840" y="5791320"/>
            <a:ext cx="239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Patrick PEA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IRB member and leader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Easter R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2732400" y="5867280"/>
            <a:ext cx="277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James CONNO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Founder of Irish Citizens Ar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SOCI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5858640" y="5715000"/>
            <a:ext cx="30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David LLOYD GEO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British Prime Minister 1916 - 19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2854080" y="2743200"/>
            <a:ext cx="264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Michael COLL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Leader of IRA forces and I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6417720" y="65530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9933"/>
                </a:solidFill>
                <a:latin typeface="Times New Roman"/>
              </a:rPr>
              <a:t>Click here to move to the next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5" descr="carson face only"/>
          <p:cNvPicPr/>
          <p:nvPr/>
        </p:nvPicPr>
        <p:blipFill>
          <a:blip r:embed="rId1"/>
          <a:stretch/>
        </p:blipFill>
        <p:spPr>
          <a:xfrm>
            <a:off x="533520" y="304920"/>
            <a:ext cx="1422360" cy="1803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Griffith image"/>
          <p:cNvPicPr/>
          <p:nvPr/>
        </p:nvPicPr>
        <p:blipFill>
          <a:blip r:embed="rId2"/>
          <a:stretch/>
        </p:blipFill>
        <p:spPr>
          <a:xfrm>
            <a:off x="6705720" y="152280"/>
            <a:ext cx="1577880" cy="2274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MIc Collins in general's outfit"/>
          <p:cNvPicPr/>
          <p:nvPr/>
        </p:nvPicPr>
        <p:blipFill>
          <a:blip r:embed="rId3"/>
          <a:stretch/>
        </p:blipFill>
        <p:spPr>
          <a:xfrm>
            <a:off x="3200400" y="152280"/>
            <a:ext cx="1830240" cy="2514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Patrick Pearse"/>
          <p:cNvPicPr/>
          <p:nvPr/>
        </p:nvPicPr>
        <p:blipFill>
          <a:blip r:embed="rId4"/>
          <a:stretch/>
        </p:blipFill>
        <p:spPr>
          <a:xfrm>
            <a:off x="533520" y="3505320"/>
            <a:ext cx="2133360" cy="1950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9" descr="Connolly face"/>
          <p:cNvPicPr/>
          <p:nvPr/>
        </p:nvPicPr>
        <p:blipFill>
          <a:blip r:embed="rId5"/>
          <a:stretch/>
        </p:blipFill>
        <p:spPr>
          <a:xfrm>
            <a:off x="3581280" y="3809880"/>
            <a:ext cx="1435320" cy="2108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4" descr="dlgsmallphoto"/>
          <p:cNvPicPr/>
          <p:nvPr/>
        </p:nvPicPr>
        <p:blipFill>
          <a:blip r:embed="rId6"/>
          <a:stretch/>
        </p:blipFill>
        <p:spPr>
          <a:xfrm>
            <a:off x="6553080" y="3809880"/>
            <a:ext cx="1160640" cy="15145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82680" y="2819520"/>
            <a:ext cx="200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Eammon DE VAL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Leader of Sinn F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5740200" y="2590920"/>
            <a:ext cx="286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John RED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Leader of Irish Nationalist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NATION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18520" y="5791320"/>
            <a:ext cx="281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Eoin MAC NE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Leader of Irish Volunteer 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NATION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406680" y="5867280"/>
            <a:ext cx="1741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Roger CAS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Member of I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402160" y="5715000"/>
            <a:ext cx="344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James CRA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Deputy Leader of Ulster Unionist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UNION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662920" y="2743200"/>
            <a:ext cx="2027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Herbert ASQU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British Prime Min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6417720" y="65530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9933"/>
                </a:solidFill>
                <a:latin typeface="Times New Roman"/>
              </a:rPr>
              <a:t>Click here to move to the next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5" descr="Eammon De Valera"/>
          <p:cNvPicPr/>
          <p:nvPr/>
        </p:nvPicPr>
        <p:blipFill>
          <a:blip r:embed="rId1"/>
          <a:stretch/>
        </p:blipFill>
        <p:spPr>
          <a:xfrm>
            <a:off x="990720" y="304920"/>
            <a:ext cx="888840" cy="2504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Herbert Asquith"/>
          <p:cNvPicPr/>
          <p:nvPr/>
        </p:nvPicPr>
        <p:blipFill>
          <a:blip r:embed="rId2"/>
          <a:stretch/>
        </p:blipFill>
        <p:spPr>
          <a:xfrm>
            <a:off x="2895480" y="152280"/>
            <a:ext cx="1578240" cy="2548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John Redmond"/>
          <p:cNvPicPr/>
          <p:nvPr/>
        </p:nvPicPr>
        <p:blipFill>
          <a:blip r:embed="rId3"/>
          <a:stretch/>
        </p:blipFill>
        <p:spPr>
          <a:xfrm>
            <a:off x="6553080" y="304920"/>
            <a:ext cx="1189080" cy="2193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Eoin MacNeill"/>
          <p:cNvPicPr/>
          <p:nvPr/>
        </p:nvPicPr>
        <p:blipFill>
          <a:blip r:embed="rId4"/>
          <a:stretch/>
        </p:blipFill>
        <p:spPr>
          <a:xfrm>
            <a:off x="990720" y="3657600"/>
            <a:ext cx="1371600" cy="2077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9" descr="Roger Casement"/>
          <p:cNvPicPr/>
          <p:nvPr/>
        </p:nvPicPr>
        <p:blipFill>
          <a:blip r:embed="rId5"/>
          <a:stretch/>
        </p:blipFill>
        <p:spPr>
          <a:xfrm>
            <a:off x="3505320" y="3276720"/>
            <a:ext cx="1554120" cy="2504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" descr="James Craig"/>
          <p:cNvPicPr/>
          <p:nvPr/>
        </p:nvPicPr>
        <p:blipFill>
          <a:blip r:embed="rId6"/>
          <a:stretch/>
        </p:blipFill>
        <p:spPr>
          <a:xfrm>
            <a:off x="6172200" y="3429000"/>
            <a:ext cx="1785960" cy="21636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Herbert Asquith"/>
          <p:cNvPicPr/>
          <p:nvPr/>
        </p:nvPicPr>
        <p:blipFill>
          <a:blip r:embed="rId1"/>
          <a:stretch/>
        </p:blipFill>
        <p:spPr>
          <a:xfrm>
            <a:off x="2987640" y="981000"/>
            <a:ext cx="321480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324000" y="260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MY BUDGET WAS REJECTED BY THE HOUSE OF L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Patrick Pearse"/>
          <p:cNvPicPr/>
          <p:nvPr/>
        </p:nvPicPr>
        <p:blipFill>
          <a:blip r:embed="rId1"/>
          <a:stretch/>
        </p:blipFill>
        <p:spPr>
          <a:xfrm>
            <a:off x="1547640" y="765000"/>
            <a:ext cx="5545440" cy="50706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46836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FOOLS, THE FOOLS, THE FOOL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carson face only"/>
          <p:cNvPicPr/>
          <p:nvPr/>
        </p:nvPicPr>
        <p:blipFill>
          <a:blip r:embed="rId1"/>
          <a:stretch/>
        </p:blipFill>
        <p:spPr>
          <a:xfrm>
            <a:off x="2340000" y="836640"/>
            <a:ext cx="4089240" cy="5184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539640" y="18900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E RULE? OVER MY DEAD BOD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Roger Casement"/>
          <p:cNvPicPr/>
          <p:nvPr/>
        </p:nvPicPr>
        <p:blipFill>
          <a:blip r:embed="rId1"/>
          <a:stretch/>
        </p:blipFill>
        <p:spPr>
          <a:xfrm>
            <a:off x="2814480" y="907920"/>
            <a:ext cx="3262320" cy="52578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684360" y="2602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MY GOODNESS, I HATE SUBMAR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OCIALIST REVOLUTION WILL SOLVE IRELAND’S PROBLEMS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0" name="Picture 3" descr="Connolly face"/>
          <p:cNvPicPr/>
          <p:nvPr/>
        </p:nvPicPr>
        <p:blipFill>
          <a:blip r:embed="rId1"/>
          <a:stretch/>
        </p:blipFill>
        <p:spPr>
          <a:xfrm>
            <a:off x="2700360" y="1052640"/>
            <a:ext cx="3478320" cy="511164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dlgsmallphoto"/>
          <p:cNvPicPr/>
          <p:nvPr/>
        </p:nvPicPr>
        <p:blipFill>
          <a:blip r:embed="rId1"/>
          <a:stretch/>
        </p:blipFill>
        <p:spPr>
          <a:xfrm>
            <a:off x="2987640" y="1341360"/>
            <a:ext cx="3640320" cy="47516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539640" y="404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WELL BOYO, YOU WILL HAVE TO SPLIT IRE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1T06:45:49Z</dcterms:created>
  <dc:creator>O'Brien</dc:creator>
  <dc:description/>
  <dc:language>en-US</dc:language>
  <cp:lastModifiedBy>LEGION</cp:lastModifiedBy>
  <dcterms:modified xsi:type="dcterms:W3CDTF">2017-07-03T11:23:03Z</dcterms:modified>
  <cp:revision>9</cp:revision>
  <dc:subject/>
  <dc:title>No Slide Title</dc:title>
</cp:coreProperties>
</file>